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BB6AEEB-076F-40FE-AB2F-60790F51CE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1791A3E-6FE5-4D89-A3CB-FFC9E8A57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A9156B7-150E-4D96-8DA5-BBD6291AD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1BC-85BE-4493-B948-4AC6ADC6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90E-3430-4B2A-9EBC-C231F1B3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8B0-B40B-45F9-9248-DCE9CDC6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898-8937-4719-8AF4-56AE9996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D76D-9510-40E7-A19B-3128B57A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9BF-3AD3-41A7-AC8A-3D5414FB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8215-FCFD-4AFE-B0A7-FD0F826D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E00-1D1F-4AB4-B3A1-8651E572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D3B3-2B7F-436B-BC2A-3B84F29D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B342-AD2E-4985-8717-402766B4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2971-F7EB-4FEF-B8FB-91CDBEC1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362-2CA5-42A8-9509-E7A5FD87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D9D2891-BDFF-4413-8D1F-8061B581E59C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DB62C08-A4AA-4F35-86F4-E66068CB5EDC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2004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0" y="685800"/>
            <a:ext cx="3124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log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 any catalog that has items your children will find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etend that you have $50.00 to spend together on gifts for  your famil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ing items from the cata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lect the gifts so that the total will be as close as possible to $50.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raw a picture of something you did over winter break. Include a caption for your picture describing what is happen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nitials________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200400" y="4952880"/>
            <a:ext cx="33526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ocial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travel log of your winter break travels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rite a paragraph about your winter tradition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itials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e a friendly letter to your favorite author asking a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bout a particular part of the book that you are reading or have r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3352680" y="685800"/>
            <a:ext cx="256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ke a recycled man from recycled materials or draw the different ph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f the moon over 7 da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0" y="5029200"/>
            <a:ext cx="320040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Grocery Sto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Have your child accompany you to the grocery store, carrying a calculato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As each item is selected and put into your basket, have him or h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round the price to the nearest dollar, and enter the dollar amount into the calculato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When you are ready to go to the checkout counter, ask your child for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expected total, then see how close that is to the actual amount you pa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3200400" y="2666880"/>
            <a:ext cx="335268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Mob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3 of your favorite characters from books you have read. Draw and color a picture of each one on plain paper. Cut out the characters you have drawn. Choose 1 of these favorite characters to write about on the center of a paper plate. Tell about his/her personality (Is he/she brave, strong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ny, hard to get along with, friendly, a hard-worker, a good problem- solver?). How can you tell? What does he/she do in the story that shows his/ her personality? Decorate or color your plate. Finally, tape a piece of yarn to the back of the paper plate, then tape the yarn to each of your cut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s and hang or displa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6781680" y="5029200"/>
            <a:ext cx="2560680" cy="10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rt &amp; graph brushing and flossing your teeth for 7 da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Winter.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). All work should be completed in the student’s homework journal. The journal, with completed work,  and the board, with parent initials are due: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Calibri"/>
              </a:rPr>
              <a:t>January 10, 2011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itials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0" y="2666880"/>
            <a:ext cx="3048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ass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have a budget of $25.00 for a class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epare a shopping list that is within the budg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ck the prices in a newspaper ad or local grocery 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1:20:57Z</dcterms:created>
  <dc:creator> </dc:creator>
  <dc:description/>
  <dc:language>en-US</dc:language>
  <cp:lastModifiedBy> </cp:lastModifiedBy>
  <cp:lastPrinted>2009-12-03T11:38:05Z</cp:lastPrinted>
  <dcterms:modified xsi:type="dcterms:W3CDTF">2010-12-20T23:03:16Z</dcterms:modified>
  <cp:revision>29</cp:revision>
  <dc:subject/>
  <dc:title>Slide 1</dc:title>
</cp:coreProperties>
</file>